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APARAT.WAV" ContentType="audio/x-wav"/>
  <Override PartName="/ppt/media/image5.wmf" ContentType="image/x-wmf"/>
  <Override PartName="/ppt/media/image10.wmf" ContentType="image/x-wmf"/>
  <Override PartName="/ppt/media/DZWONKI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B49-317A-4347-9B7F-84F7E338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4D6-A5BF-41ED-AF92-306FFEF3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3A7-DE2E-4E73-9F25-E518AC87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4EC-49A5-428E-8C05-0FBECFF8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B51-7D55-4A55-90C6-AF7E03D4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C5C-CFD3-47C8-8D63-50C3C427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084-E4E0-4760-9DB8-EB59F2F4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AF1-25A1-4D5B-BC67-FA798D9D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101-E413-492B-97BD-A495673C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DF1-1EFD-49B1-A0E1-71B8251E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1BD-54B8-4275-84D4-FB96CC09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C36-F1EB-4A76-B499-BEA99544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f00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D777-D4C5-488E-8720-2096633587A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ARAT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7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4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662120" y="3067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638280" y="2286000"/>
            <a:ext cx="781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Die Ableitung einer Funk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in Übungen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bject 18" descr=""/>
          <p:cNvPicPr/>
          <p:nvPr/>
        </p:nvPicPr>
        <p:blipFill>
          <a:blip r:embed="rId1"/>
          <a:stretch/>
        </p:blipFill>
        <p:spPr>
          <a:xfrm>
            <a:off x="6465960" y="3736800"/>
            <a:ext cx="1763640" cy="2511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1760" y="1981080"/>
            <a:ext cx="644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nks von 1 ist die Ableitung negat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echts von 1 ist die Ableitung posit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4" descr=""/>
          <p:cNvPicPr/>
          <p:nvPr/>
        </p:nvPicPr>
        <p:blipFill>
          <a:blip r:embed="rId2"/>
          <a:stretch/>
        </p:blipFill>
        <p:spPr>
          <a:xfrm>
            <a:off x="7037280" y="3747960"/>
            <a:ext cx="873360" cy="26528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67840" y="94464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tw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9440" y="2209680"/>
            <a:ext cx="637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ür Parameter a=2 erreicht Funktion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inimum im Punkt            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24"/>
              <p:cNvSpPr txBox="1"/>
              <p:nvPr/>
            </p:nvSpPr>
            <p:spPr>
              <a:xfrm>
                <a:off x="4192560" y="2666880"/>
                <a:ext cx="12175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Object 1025" descr=""/>
          <p:cNvPicPr/>
          <p:nvPr/>
        </p:nvPicPr>
        <p:blipFill>
          <a:blip r:embed="rId2"/>
          <a:stretch/>
        </p:blipFill>
        <p:spPr>
          <a:xfrm>
            <a:off x="6402240" y="4038480"/>
            <a:ext cx="2643480" cy="2475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 flipH="1">
            <a:off x="609480" y="457200"/>
            <a:ext cx="6934320" cy="3505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ARA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143000" y="1325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88320" y="254484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 machen das selbständig !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Object 5" descr=""/>
          <p:cNvPicPr/>
          <p:nvPr/>
        </p:nvPicPr>
        <p:blipFill>
          <a:blip r:embed="rId2"/>
          <a:stretch/>
        </p:blipFill>
        <p:spPr>
          <a:xfrm>
            <a:off x="6743880" y="3657600"/>
            <a:ext cx="118584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826920" y="56340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Übung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74160" y="1676520"/>
            <a:ext cx="74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estimme den höhsten und kleins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ert der Funktion f  in der Menge, wenn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048"/>
              <p:cNvSpPr txBox="1"/>
              <p:nvPr/>
            </p:nvSpPr>
            <p:spPr>
              <a:xfrm>
                <a:off x="933480" y="3220920"/>
                <a:ext cx="736920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,2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41400" y="71604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75200" y="1905120"/>
            <a:ext cx="636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etzt lösen wir diese Aufgabe n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m Schema (Das Schema haben w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etztes Mal besprochen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Object 1024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496880" cy="2813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01320" y="1447920"/>
            <a:ext cx="67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prüfen, ob  sich die Menge &lt;-2,2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n der Menge D enthält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993600" y="3200400"/>
                <a:ext cx="74613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so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&gt;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87680" y="1128600"/>
            <a:ext cx="783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rechnen die Werte der Funktion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uf Enden der Menge &lt;-2,2&gt;, also in Punk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=-2  und  b=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bekom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0"/>
              <p:cNvSpPr txBox="1"/>
              <p:nvPr/>
            </p:nvSpPr>
            <p:spPr>
              <a:xfrm>
                <a:off x="1379520" y="3933720"/>
                <a:ext cx="66009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61320" y="933480"/>
            <a:ext cx="749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rechnen die Ableitung und bestim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Extrempunkte (Extr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0"/>
              <p:cNvSpPr txBox="1"/>
              <p:nvPr/>
            </p:nvSpPr>
            <p:spPr>
              <a:xfrm>
                <a:off x="1854360" y="2438280"/>
                <a:ext cx="5003640" cy="28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∨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7524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2743200" y="749160"/>
            <a:ext cx="3251160" cy="214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600200" y="2076480"/>
            <a:ext cx="64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2     0       2         4                    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126520" y="146700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+      max       min     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20200" y="3306600"/>
            <a:ext cx="82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Punkt x=4 liegt außerhalb der Menge &lt;-2,2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0 hat Funktion f maximum f(0)=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388620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438280" y="2057400"/>
            <a:ext cx="16765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4038480" y="2057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2286000" y="2057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PARA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99640" y="32400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tw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63840" y="1467000"/>
            <a:ext cx="644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höhste Wert erreicht Funktion 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0 und er beträgt y=6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kleinste Wert erreicht Funktion f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-2 und er beträgt y= -26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 flipH="1">
            <a:off x="457200" y="152280"/>
            <a:ext cx="6934320" cy="4343400"/>
          </a:xfrm>
          <a:prstGeom prst="wedgeRoundRectCallout">
            <a:avLst>
              <a:gd name="adj1" fmla="val -43518"/>
              <a:gd name="adj2" fmla="val 57305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bject 0" descr=""/>
          <p:cNvPicPr/>
          <p:nvPr/>
        </p:nvPicPr>
        <p:blipFill>
          <a:blip r:embed="rId1"/>
          <a:stretch/>
        </p:blipFill>
        <p:spPr>
          <a:xfrm>
            <a:off x="6249960" y="4078440"/>
            <a:ext cx="2643120" cy="2474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831960" y="1204920"/>
            <a:ext cx="68148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as Mot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Übung macht den Meister”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ject 3" descr=""/>
          <p:cNvPicPr/>
          <p:nvPr/>
        </p:nvPicPr>
        <p:blipFill>
          <a:blip r:embed="rId1"/>
          <a:stretch/>
        </p:blipFill>
        <p:spPr>
          <a:xfrm>
            <a:off x="6357960" y="3521160"/>
            <a:ext cx="1492200" cy="2727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143000" y="1325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88320" y="254484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 machen das selbständig !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Object 0" descr=""/>
          <p:cNvPicPr/>
          <p:nvPr/>
        </p:nvPicPr>
        <p:blipFill>
          <a:blip r:embed="rId1"/>
          <a:stretch/>
        </p:blipFill>
        <p:spPr>
          <a:xfrm>
            <a:off x="5487840" y="3429000"/>
            <a:ext cx="2659320" cy="2881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907360" y="1676520"/>
            <a:ext cx="341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imes New Roman"/>
              </a:rPr>
              <a:t>Das E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5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895480" cy="2844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25680" y="304920"/>
            <a:ext cx="749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ösung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ozwiązani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bleitung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pocho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trag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ynosi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üf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sprawdz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rt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odz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rreich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siąg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stimm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yznacz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sprech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mawi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nthalten sich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awierać si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chema, das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enge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bió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nte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tz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podstawi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ert, der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art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eichn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ysow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>
            <a:hlinkClick r:id="" action="ppaction://hlinkshowjump?jump=previousslide"/>
          </p:cNvPr>
          <p:cNvSpPr/>
          <p:nvPr/>
        </p:nvSpPr>
        <p:spPr>
          <a:xfrm>
            <a:off x="7848720" y="5334120"/>
            <a:ext cx="738000" cy="89064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90640"/>
              <a:gd name="textAreaBottom" fmla="*/ 843120 h 890640"/>
            </a:gdLst>
            <a:ahLst/>
            <a:rect l="textAreaLeft" t="textAreaTop" r="textAreaRight" b="textAreaBottom"/>
            <a:pathLst>
              <a:path w="21600" h="26065">
                <a:moveTo>
                  <a:pt x="0" y="0"/>
                </a:moveTo>
                <a:lnTo>
                  <a:pt x="21600" y="0"/>
                </a:lnTo>
                <a:lnTo>
                  <a:pt x="21600" y="26065"/>
                </a:lnTo>
                <a:lnTo>
                  <a:pt x="0" y="26065"/>
                </a:lnTo>
                <a:close/>
              </a:path>
              <a:path fill="lightenLess" w="21600" h="260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5">
                <a:moveTo>
                  <a:pt x="21600" y="0"/>
                </a:moveTo>
                <a:lnTo>
                  <a:pt x="21600" y="26065"/>
                </a:lnTo>
                <a:lnTo>
                  <a:pt x="20200" y="24665"/>
                </a:lnTo>
                <a:lnTo>
                  <a:pt x="20200" y="1400"/>
                </a:lnTo>
                <a:close/>
              </a:path>
              <a:path fill="darkenLess" w="21600" h="26065">
                <a:moveTo>
                  <a:pt x="21600" y="26065"/>
                </a:moveTo>
                <a:lnTo>
                  <a:pt x="0" y="26065"/>
                </a:lnTo>
                <a:lnTo>
                  <a:pt x="1400" y="24665"/>
                </a:lnTo>
                <a:lnTo>
                  <a:pt x="20200" y="24665"/>
                </a:lnTo>
                <a:close/>
              </a:path>
              <a:path fill="lighten" w="21600" h="26065">
                <a:moveTo>
                  <a:pt x="0" y="260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5"/>
                </a:lnTo>
                <a:close/>
              </a:path>
              <a:path fill="darken" w="21600" h="26065">
                <a:moveTo>
                  <a:pt x="3794" y="9725"/>
                </a:moveTo>
                <a:lnTo>
                  <a:pt x="7301" y="9725"/>
                </a:lnTo>
                <a:lnTo>
                  <a:pt x="7301" y="15061"/>
                </a:lnTo>
                <a:cubicBezTo>
                  <a:pt x="7301" y="15983"/>
                  <a:pt x="8102" y="16714"/>
                  <a:pt x="9138" y="16714"/>
                </a:cubicBezTo>
                <a:lnTo>
                  <a:pt x="10800" y="16714"/>
                </a:lnTo>
                <a:cubicBezTo>
                  <a:pt x="11836" y="16714"/>
                  <a:pt x="12636" y="15983"/>
                  <a:pt x="12636" y="15061"/>
                </a:cubicBezTo>
                <a:lnTo>
                  <a:pt x="12636" y="9725"/>
                </a:lnTo>
                <a:lnTo>
                  <a:pt x="10800" y="9725"/>
                </a:lnTo>
                <a:lnTo>
                  <a:pt x="14308" y="6218"/>
                </a:lnTo>
                <a:lnTo>
                  <a:pt x="17981" y="9725"/>
                </a:lnTo>
                <a:lnTo>
                  <a:pt x="16144" y="9725"/>
                </a:lnTo>
                <a:lnTo>
                  <a:pt x="16144" y="15061"/>
                </a:lnTo>
                <a:cubicBezTo>
                  <a:pt x="16144" y="17828"/>
                  <a:pt x="13568" y="20387"/>
                  <a:pt x="10800" y="20387"/>
                </a:cubicBezTo>
                <a:lnTo>
                  <a:pt x="9138" y="20387"/>
                </a:lnTo>
                <a:cubicBezTo>
                  <a:pt x="6370" y="20387"/>
                  <a:pt x="3794" y="17828"/>
                  <a:pt x="3794" y="1506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PARA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21360" y="1552680"/>
            <a:ext cx="79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enn Sie  die sprachliche Hilfe brauch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klicken Sie bitte dieses Zeichen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>
            <a:hlinkClick r:id="rId1" action="ppaction://hlinksldjump"/>
          </p:cNvPr>
          <p:cNvSpPr/>
          <p:nvPr/>
        </p:nvSpPr>
        <p:spPr>
          <a:xfrm>
            <a:off x="4038480" y="3276720"/>
            <a:ext cx="1067040" cy="914400"/>
          </a:xfrm>
          <a:custGeom>
            <a:avLst/>
            <a:gdLst>
              <a:gd name="textAreaLeft" fmla="*/ 59040 w 1067040"/>
              <a:gd name="textAreaRight" fmla="*/ 1008000 w 1067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1260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4" h="21600">
                <a:moveTo>
                  <a:pt x="1260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4" h="21600">
                <a:moveTo>
                  <a:pt x="10026" y="8224"/>
                </a:moveTo>
                <a:lnTo>
                  <a:pt x="13890" y="8224"/>
                </a:lnTo>
                <a:lnTo>
                  <a:pt x="13890" y="15221"/>
                </a:lnTo>
                <a:lnTo>
                  <a:pt x="15178" y="15221"/>
                </a:lnTo>
                <a:lnTo>
                  <a:pt x="15178" y="16144"/>
                </a:lnTo>
                <a:lnTo>
                  <a:pt x="10026" y="16144"/>
                </a:lnTo>
                <a:lnTo>
                  <a:pt x="10026" y="15221"/>
                </a:lnTo>
                <a:lnTo>
                  <a:pt x="11314" y="15221"/>
                </a:lnTo>
                <a:lnTo>
                  <a:pt x="11314" y="9129"/>
                </a:lnTo>
                <a:lnTo>
                  <a:pt x="10026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ARA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81440" y="2209680"/>
            <a:ext cx="537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Also - an die Arbei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5" descr=""/>
          <p:cNvPicPr/>
          <p:nvPr/>
        </p:nvPicPr>
        <p:blipFill>
          <a:blip r:embed="rId2"/>
          <a:stretch/>
        </p:blipFill>
        <p:spPr>
          <a:xfrm>
            <a:off x="5792760" y="3733920"/>
            <a:ext cx="2371680" cy="2103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011320" y="2381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71400" y="2476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Übung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61680" y="1085760"/>
            <a:ext cx="729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ür welchen Parameter a hat Funktion f 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unkt      ein Extremum, wenn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6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0"/>
              <p:cNvSpPr txBox="1"/>
              <p:nvPr/>
            </p:nvSpPr>
            <p:spPr>
              <a:xfrm>
                <a:off x="609480" y="2666880"/>
                <a:ext cx="673920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"/>
              <p:cNvSpPr txBox="1"/>
              <p:nvPr/>
            </p:nvSpPr>
            <p:spPr>
              <a:xfrm>
                <a:off x="1768320" y="1523880"/>
                <a:ext cx="5176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7" name="Object 2" descr=""/>
          <p:cNvPicPr/>
          <p:nvPr/>
        </p:nvPicPr>
        <p:blipFill>
          <a:blip r:embed="rId2"/>
          <a:stretch/>
        </p:blipFill>
        <p:spPr>
          <a:xfrm>
            <a:off x="6664320" y="3581280"/>
            <a:ext cx="1255680" cy="2700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80920" y="56340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020600" y="1935000"/>
            <a:ext cx="73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 ersten Schritt rechnen wir die Abl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2436840" y="2765520"/>
                <a:ext cx="4271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 Box 6"/>
          <p:cNvSpPr/>
          <p:nvPr/>
        </p:nvSpPr>
        <p:spPr>
          <a:xfrm>
            <a:off x="1515240" y="406872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ie Ableitung im Punkt x=1 beträg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554200" y="4911840"/>
                <a:ext cx="41544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040760" y="1600200"/>
            <a:ext cx="752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ie Ableitung muß Null sein (Fermata Sat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l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714680" y="3166920"/>
                <a:ext cx="5752800" cy="26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485000" y="1447920"/>
            <a:ext cx="67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etzt prüfen wir Art des Extrem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setzen a=2 in die Ableitung unter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2286000" y="3154320"/>
                <a:ext cx="46371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260720" y="1173240"/>
            <a:ext cx="64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zeichnen eine Achse und Gera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0"/>
          <p:cNvGrpSpPr/>
          <p:nvPr/>
        </p:nvGrpSpPr>
        <p:grpSpPr>
          <a:xfrm>
            <a:off x="1371600" y="2361960"/>
            <a:ext cx="7173720" cy="3429000"/>
            <a:chOff x="1371600" y="2361960"/>
            <a:chExt cx="7173720" cy="3429000"/>
          </a:xfrm>
        </p:grpSpPr>
        <p:sp>
          <p:nvSpPr>
            <p:cNvPr id="73" name="Line 4"/>
            <p:cNvSpPr/>
            <p:nvPr/>
          </p:nvSpPr>
          <p:spPr>
            <a:xfrm>
              <a:off x="1371600" y="411480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3183840" y="3397320"/>
              <a:ext cx="219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Times New Roman"/>
                </a:rPr>
                <a:t>min           </a:t>
              </a:r>
              <a:r>
                <a:rPr b="1" lang="pl-PL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2183040" y="4035600"/>
              <a:ext cx="636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pl-PL" sz="3200" spc="-1" strike="noStrike">
                  <a:solidFill>
                    <a:srgbClr val="000000"/>
                  </a:solidFill>
                  <a:latin typeface="Times New Roman"/>
                </a:rPr>
                <a:t>               1                                    X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 flipV="1">
              <a:off x="2057400" y="2361960"/>
              <a:ext cx="388620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  <p:sndAc>
      <p:stSnd>
        <p:snd r:embed="rId2" name="APARA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1T20:40:20Z</dcterms:created>
  <dc:creator>Piotr Gumienny</dc:creator>
  <dc:description/>
  <dc:language>en-US</dc:language>
  <cp:lastModifiedBy>AP</cp:lastModifiedBy>
  <dcterms:modified xsi:type="dcterms:W3CDTF">2015-03-13T07:32:27Z</dcterms:modified>
  <cp:revision>27</cp:revision>
  <dc:subject>Pochodna w zadaniach</dc:subject>
  <dc:title>Specjalizacja II</dc:title>
</cp:coreProperties>
</file>